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himes.wav" ContentType="audio/x-wav"/>
  <Override PartName="/ppt/media/bomb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1144-8A65-45CF-A0A0-4A0ADCC33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273B-F258-4655-9506-961206A4B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A745-E238-42D8-84AF-3ABA471B4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9BC4-78A8-4E7C-A375-1D5A6F58C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A31A3-4D58-4F5F-9315-20217A6AA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10BB2-95AC-474D-80ED-BE7EDEE37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3C351-9503-4FA0-B4F3-217043322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3CF25-3A19-4E32-81A5-5E6D69B2C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636C6-7FA4-4B5C-922C-A726963E7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D2929-BA8D-461D-9285-0358BC2B1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ECE34-F838-45B5-9848-6E3745EF8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3584-45AD-43E4-A45D-C1E3B12D0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56036-0DAE-45E3-B225-A39916377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228B0-45E0-445D-B7DA-C0424D7EA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ED4F6-2662-4639-A8DE-FDE706057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D454D-2A79-44E6-B62B-D3C9B440E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7DD4F-A5A2-4718-9983-5C143AD2E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2FEB-1536-4E60-8B06-413265197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DB69-3B3A-44E9-8278-427F49E56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FE56-6093-476F-8983-E7249B9F0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F894-2B03-4175-B45E-134386651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8239-1F31-4167-8CEC-14CC08C50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4F12-74E7-429B-9E71-395BB044C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1244-9342-41CD-A89C-7D6FA5448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29B4A-E7D3-4DCA-839A-747D7C6B9D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22B09-35C9-4521-86E2-B710C325BE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bomb.wav"/><Relationship Id="rId2" Type="http://schemas.openxmlformats.org/officeDocument/2006/relationships/audio" Target="../media/bomb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bomb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bomb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bomb.wav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0000"/>
                </a:solidFill>
                <a:latin typeface="Comic Sans MS"/>
              </a:rPr>
              <a:t>Descriptive Writing</a:t>
            </a:r>
            <a:endParaRPr b="0" lang="en-US" sz="5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3809880"/>
            <a:ext cx="603252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Jester"/>
              </a:rPr>
              <a:t>Purpose: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0000"/>
                </a:solidFill>
                <a:latin typeface="Jester"/>
              </a:rPr>
              <a:t>Describe a single SNAPSHOT moment from your lif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914400"/>
            <a:ext cx="6870600" cy="495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sha"/>
                <a:ea typeface="Gisha"/>
              </a:rPr>
              <a:t>1) Silently read today’s mentor text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sha"/>
                <a:ea typeface="Gisha"/>
              </a:rPr>
              <a:t>all the way through.  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sha"/>
                <a:ea typeface="Gisha"/>
              </a:rPr>
              <a:t>2) At the top of your left-hand page where you glued this text, write 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Gisha"/>
                <a:ea typeface="Gisha"/>
              </a:rPr>
              <a:t>TELL Statement</a:t>
            </a:r>
            <a:r>
              <a:rPr b="0" lang="en-US" sz="3200" spc="-1" strike="noStrike">
                <a:solidFill>
                  <a:srgbClr val="000000"/>
                </a:solidFill>
                <a:latin typeface="Gisha"/>
                <a:ea typeface="Gisha"/>
              </a:rPr>
              <a:t> summing up what the text is mostly about. (date, title, table of contents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5943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sha"/>
                <a:ea typeface="Gisha"/>
              </a:rPr>
              <a:t>3) Read the text a second time and annotate your thoughts or in other words, “talk to the text” about what made the author’s description of the moment colorful and alive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5791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sha"/>
                <a:ea typeface="Gisha"/>
              </a:rPr>
              <a:t>2) Now…choose a moment from your positive+/-negative lis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sha"/>
                <a:ea typeface="Gisha"/>
              </a:rPr>
              <a:t>or your heart map and on the right-hand page, start by writing 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Gisha"/>
                <a:ea typeface="Gisha"/>
              </a:rPr>
              <a:t>TELL Statement</a:t>
            </a:r>
            <a:r>
              <a:rPr b="0" lang="en-US" sz="3200" spc="-1" strike="noStrike">
                <a:solidFill>
                  <a:srgbClr val="000000"/>
                </a:solidFill>
                <a:latin typeface="Gisha"/>
                <a:ea typeface="Gisha"/>
              </a:rPr>
              <a:t> at the top. </a:t>
            </a:r>
            <a:br>
              <a:rPr sz="3200"/>
            </a:b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Gisha"/>
                <a:ea typeface="Gisha"/>
              </a:rPr>
              <a:t>One day I broke my arm and it hurt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666880" y="-36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Now…write a rough draf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523520" y="2361960"/>
            <a:ext cx="603252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sha"/>
                <a:ea typeface="Gisha"/>
              </a:rPr>
              <a:t>Create a new word document and title it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sha"/>
                <a:ea typeface="Gish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sha"/>
                <a:ea typeface="Gisha"/>
              </a:rPr>
              <a:t>firstnamelastintial – snapshot moment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sha"/>
                <a:ea typeface="Gisha"/>
              </a:rPr>
              <a:t>It would be a good idea to use 1.5 or 2 spaces between lines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Upload to wiki with your posting comments 6 minutes before the bell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0000"/>
                </a:solidFill>
                <a:latin typeface="Comic Sans MS"/>
              </a:rPr>
              <a:t>Descriptive Writing</a:t>
            </a:r>
            <a:endParaRPr b="0" lang="en-US" sz="5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morrow we will begin editing and revising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22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5T19:19:23Z</dcterms:created>
  <dc:creator>Tammy</dc:creator>
  <dc:description/>
  <dc:language>en-US</dc:language>
  <cp:lastModifiedBy>Tammy</cp:lastModifiedBy>
  <dcterms:modified xsi:type="dcterms:W3CDTF">2010-09-16T11:12:29Z</dcterms:modified>
  <cp:revision>30</cp:revision>
  <dc:subject/>
  <dc:title>Modes of Writing</dc:title>
</cp:coreProperties>
</file>